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ACE0-5874-4935-89C1-EA55114B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A707-4E1C-454C-9B93-BE3AED39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52F8E-64E2-4B71-92BE-8390DC16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98E25-353C-4C84-9217-A69FC6E2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3734A-A34A-4DE4-A99A-1F8B05B1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4FCB9-723D-46AA-B843-4504E6EE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879A7-85F4-443F-8280-90E6668E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C9165-36F6-4965-B463-5BA39AB8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93C42-E058-4700-A4B8-17CA4BFF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F04D7-4DDD-451D-BCEC-B3C60CA6C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D06C8-BC2F-4AC3-BA11-8317B6E4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01983-C227-4308-A994-10DCBF49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B616-9552-418B-A49F-B6841809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752BF-9273-423B-88F7-89899BDB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79CB3-AAD4-4691-9094-19E38F53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51835-3340-4281-8C73-651E4F1C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34C65-EBCF-41CE-A7B9-64624FB7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CEF04-3447-45D8-95AD-958F1E1F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766E5-99F3-49E4-AE95-B42C8DF0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91FCA-6AF6-4933-A253-D74C3AFB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66CF4-BD4F-4296-8023-6A9C9E58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2ADA7-A300-44E1-9225-4858B01A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219D6-4671-4F2D-812C-680A80F5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67D7-0E6C-4BDA-A345-5DD50319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80C81-7099-40A9-B02D-6392A850D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EFC8B-5F3B-431C-AF7B-0032CF64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95028-BCC3-4610-A1E7-38D1404E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47514-BCFF-41A7-9AB0-D270883C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E4776-27ED-4F49-99A4-CA79B77D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7CEA6-78D7-4876-8EFB-B948EEC1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C9C1D-B66D-4302-BDCC-AE4328E5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A6DAD-AECD-4CF1-8A2D-A217F059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830BC-21EA-4889-8408-F8891064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22AF2-3D16-498B-8168-17E316E7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1845-F861-4D39-81DF-40552562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0F882-6D76-480E-8087-3F18F7F6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74B11-CDE6-4ABF-860B-324ED932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C1C33-AB96-4795-97F3-FAE4BD34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09883-65AA-4C05-B394-A982E585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55C96-4A9A-4D29-A66F-E6D106C9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E6358-768C-432E-BCB6-8D6EE200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193AE-7C94-43F8-AFA8-082729F7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2A3CD-A6E1-41CA-ABE7-640E14A9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58535-53A3-48D0-A30C-5D1B6D23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78041-5A18-463D-87F1-22E66072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9599-34A6-4C5A-BA9E-B90368A4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E28FD-DE41-4758-8EFE-4D4853C4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8B864-F4F0-4D20-83D0-BE32B1BF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539DF-7A38-45EF-A999-B81BB558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FAA87-0327-4D7B-9B7D-3C979520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8FF59-80DE-4111-A877-3E001EA9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B76BF9-C193-47A1-93BE-35FC798E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BC5B4B-35F2-4223-89F6-5F0BA1E8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287927-3BA9-47F7-9850-433E604E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CDC6A0-081F-43F5-9419-5C625A85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051299-7EA7-40BA-8D8B-467A5A13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6E18-FB4B-4382-838F-74DD8A78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723B87-4222-4B6D-B9DB-A7273015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16D3DA-D694-4897-B5E9-D95C2920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F55EBC-2A35-4BEF-8A32-46A7A007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56C782-28C1-460E-9DFA-B7692609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DD0516-FA35-460B-B45D-51D283AB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693267-5675-45B2-8CE0-13D8402E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B5F761-152C-4B61-A6C0-A29DF4A8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1B41DB-D772-4E3E-8511-B2B6E0F5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CB4D2D-0DF2-4197-A9CB-0C897F97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E07DF2-4B17-4F32-8A7A-915DE624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D595-38E8-4569-9DDC-F16BFC36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FEEDCF-0EED-4292-B302-54547DB3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93F2D9-3B30-4C5D-8CEC-4DD3BE8B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501A2D-BDBF-4039-B38C-00B436F9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0E83B0-69E0-4EC0-975A-2CD60E37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39A8A7-71FF-4F18-8EC9-12B12B0F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47B530-BE49-42C7-A8CE-BABA0556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CAF7E6-AE53-4A27-91F0-5AD9D99D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DDFA24-C47D-46EB-9136-F1D1DFB8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85B18A-9B62-44B5-966A-C1F422B2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851216-5D12-49E2-BBF9-23C83699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4304-F4AD-445D-A11F-0A7B238D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60CA29-6965-4231-9AE8-09678258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B69988-5352-4E89-B2CB-F2EF1471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EF4CB0-41DC-4A86-919A-AE70BB1E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042C51-6187-44C7-9817-CA6C8CF8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6EE02B-DADC-4540-B83A-75D199BE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38F758-6545-4AE8-ADE9-7D59174B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D23AF7-1990-4389-B5E2-2FC8B845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588E7B-EF3A-4BAD-AC27-D2697BFD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9ACB5E-53A2-4DD2-B095-6265A759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E5806E-BCE6-4D0F-8349-A0B79528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A233-7B6E-4A5E-BBFD-5C77E6A9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B54A8B-9EAF-4DBB-957B-A7830C07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BEC650-0013-4B04-A2D5-16440550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DF70A5-E2D8-480C-B69C-CC1E191E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00DE4E-6445-45A6-9325-D8B944FA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2E88A5-6C20-45B1-A3BE-45B8FBDE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FBCA90-4667-4B1A-AFE6-4C6E8942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4038FE-2741-4978-86C3-7AB009CD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B22DA5-84BD-47F9-B088-92A71F03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CFA2A4-B67C-4723-9807-D3064FCE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0D8ABE-4457-4060-8BC9-761A2972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5E41-E873-44D5-88D8-63CFACA7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E56E58-7575-4321-A3F1-FC289E73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81D82E-63E8-4B36-AC89-65AB5373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EFDA16-9EB6-4C96-A383-05F9B648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762039-C201-48A1-88DB-9913A782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CCCF46-1D7B-4C51-B2B8-40A7DE67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0EC9E4-5FD3-4C0D-BFCE-7B236D52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75B15A-06B2-47A2-A1E4-1BAD5F5D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344ADA-B564-473E-ABD1-3FA22584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00F7B1-9835-435A-8F3D-F7E19A1B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E496F8-EE46-497E-9A19-EA6C7B6C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3A74-FAA5-4571-B387-B2F60F51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1EFB-77C6-4869-8B77-E5883A3B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78A5FF-60B2-480A-8396-4AA2DDD2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3B6A25-4FEB-451F-9B6A-3C115CC5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31097B-014E-4259-AC70-CCC1CBBB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F44435-612E-43D1-8960-0C0DC12C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727D8D-AC9A-4D1F-AE98-AC4F28323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1C9EF5-E36B-48FC-A295-D39DD55E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038F6A-DCE8-4A08-A3AB-0F9E3689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7656AB-3DD5-48D5-8CD7-BA977C0E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4252C0-1D79-423B-8B5A-4894DE5A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F77081-754B-44AC-9E66-A1BB85D9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E2D5-C332-4266-B1A0-C4A7F23F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F8884F-14D6-435D-996A-98696788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A441C3-1C4B-48CC-8A3C-BA3E946D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557CBD-66C4-4CC9-A69D-C95873DA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331777-7ADF-4BA8-B12C-63126EF1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09251E-3AE1-4D6C-BB55-395406A0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8C0D4D-19F8-4C04-BB0C-AA9C99BB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A526A5-F883-4194-9E0C-CD8EEF73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7D53DA-E884-468F-A0FE-7D5FA5CC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6038D8-203B-4D4C-AEAF-D79C3FAC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F043BB-4DA2-4E91-AB18-1BDF6D7D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9369-7C6E-4E3B-A6E0-933832CD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265693-A9EF-4770-A107-BD6C73E2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9DCBF6-9B5B-475A-B71C-666068BA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C01402-2BAC-4D87-A8DE-14C7BA6E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2C4F15-9478-45CE-82CA-3449A1F5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BC9F24-EFC2-4053-BA17-B0E5F7DF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CC0AB5-DA38-498B-A414-C45CE06E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696C5E-8A88-475C-BE1F-AF403871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7F7173-6FC7-405E-BB71-8C3E6ADE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7B5D51-B4F3-46E7-AD79-0A94AB8F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7127F4-EF67-45DA-9A95-8F68A1D1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C304-D989-4C44-9EEB-2177A21A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575213-4C1D-47F5-8E4E-15FE1995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C6BDC5-7999-4D04-A9A9-8AE3DA14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D8CDAE-B678-4E3B-9EA9-BC5BD973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CE3BE3-58C5-48EA-89DA-A1F4DD92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A71560-179F-4357-ABA3-342F1012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FE48B5-4DA4-43E3-AF35-D63303D4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938D4B-9DCC-4106-86B7-48C4C492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2204B0-F498-4158-98F8-2FBCBB38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C97330-9BE4-4E90-A84D-99C9DA6F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5CAC60-DAE7-47D7-97DF-05BB7553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BE97-3508-4F8C-87E4-E71D68F1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4928EB-D605-4B8A-926D-3C8A6EE8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2C080A-673F-40F4-8013-5F056B90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085C7C-F515-4004-89BF-1C1BBE1D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447DE0-8CD0-49D7-8B23-D012D3C6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FDE6CC-FBF6-4927-BFB9-6F8BAC65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B2F2AA-3739-465C-B602-1A68BF5C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91C754-C562-4F08-9497-6CB20604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8FCF77-9D9F-42D0-916C-B22AC9E4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8AA924-7C91-4598-AF36-9E76904E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642C20-1108-429A-BDF0-1F7A19B9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15EFE-107E-4CE5-8D6F-E93C038C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75D7D1-0EAA-42EA-BFEB-0C1B2DF3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4C9A4C-F92B-43A2-8164-93D5D8F8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263514-B676-49EE-9451-EBB933A4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4999AA-CE95-4DB1-85AE-4C76C5DE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04CA6E-956B-4CB4-A56A-364C9662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44E2AC-E796-4072-8DF7-4B8CC5B0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3131AA-061F-40FD-ABCB-E9F30084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0CD605-2087-4E02-AC9B-B755AFDD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6F1E8C-8C85-4031-828E-5171EB85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60A834-D26E-486A-9F98-2F641F41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F7371-3C05-4CEB-A69E-F1588BEA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8A06B7-2DBD-4B06-8994-AFFC12C1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E6F705-3484-4606-AB36-2EB7389F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EFAB3C-BF06-4D52-A897-773F6A7B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BF44DE-D58B-47C3-A20F-E1B16DD5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F84574-3499-40E1-942A-A3551C9D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94B01F-62BB-4C3D-AE3D-688DA70F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A40038-B02B-4EB6-B5E0-BB26E0F3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EA8AC5-6026-47E7-BAC5-7065F18C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083C38-82D4-4D47-8B01-8AC3C8A5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B9E450-667F-4EE2-81CE-2F6D54E9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5EEB0-D105-4BE5-A0D3-E9971409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555E93-FF3A-4EDE-9526-CB8DD974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E40A7B-09DB-4383-BA02-AF6E45CA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885311-26D5-4615-8E4B-8DC8A693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8CD75F-79FC-4479-BB4A-3AB6AB9D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F5B811-5BBE-4B91-9DF7-D5C14603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B3DCBC-4359-4714-AA7C-91D44431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CEE7A5-3EA7-4AE0-A40A-8E70E13F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80F6D1-16D8-4F38-9A40-0DCFC132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B227BE-F712-4301-B1B0-5E68B448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A88979-7E2F-44E5-A274-9C0FC95D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BF3CA-B302-4749-870C-2B580CB0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9D48A6-DE73-4620-AD67-F9909698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51A5AC-7007-47FA-8768-48512228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0032BB-27E9-4688-B183-508A77F5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CBBDCB-58D9-4997-90F9-94182A03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C2E53F-489B-460A-9848-9F9C8C60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C4DE31-0C41-4688-9530-E29DBB4C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DF70FF-755C-4A8C-A1AD-4CCE95A3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00DB58-CC24-4044-85BD-079411A0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6233FC-2E6E-4893-8AD6-65D2949F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E77565-5284-4109-89D9-77E18EE3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7BC7B-A353-4E44-A048-81E9688E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54E761-CBEE-4D31-B66A-0C813260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3071AD-5210-4D9C-A03B-41878547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DADB64-9236-494A-8DC4-FD13A269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8B7D82-0F93-4109-AFBB-9ED62120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314CC5-A348-45CA-BD31-568AF16D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E4567C-0771-4DFA-A3F2-5AF952B9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AE880B-038E-41D4-BCF1-82D2CA4E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B5E2EB-20F4-4CE2-98DD-F97A1A84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36C775-8B6E-47A4-9A74-B474203B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510EB9-7A61-48B0-9D23-4608E6AF3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7983-6DD1-4F50-A756-304194C5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51EF9-C488-42FA-94FC-AD196568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0F36B9-99D7-41DB-A9D8-1A271B41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C10836-2C41-4440-8D35-FA25C971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EA72CC-E191-448C-8174-2BFB7441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540FC0-61FE-4AD7-9BB0-7E917652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9359AF-9430-402A-9A04-43DB7752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8103BA-BEE8-4700-B228-EC42A5E5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CF1F25-49ED-4967-919B-D76AC2D2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F7C492-B65F-4FA9-ABBF-0C1DB48A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CFF6D2-DE78-4A5E-B5C3-EEF25D68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978355-DDD9-4127-A0BC-2AFA173D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CF10F-98E7-4006-8E0C-E394D4A5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B4C3BA-8D10-487C-993A-A71C1075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4D54BE-D30A-48A4-9EC4-F9261DE4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795B23-1753-4328-B463-03082727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C2B3A3-DD75-495D-9BCA-B193FBA8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26BFE1-88E7-4392-9BEA-DEADD94F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546353-5EDB-43C1-A850-35FD1A9C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FD83C3-6F2D-47FD-BCC6-A631AD85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390618-ADFC-4CCE-B863-DBE9B0FD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932BE0-BC43-4416-9ED7-A9F7C3A6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9823F6-B725-441A-95B5-FB46DA2A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4A0A9-EACD-49F8-88CD-5CD60010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45030E-A1B8-4299-948C-1F119AA8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504A35-1E7E-4F83-8013-4955FFC4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14C5DB-8264-4F86-AEDB-EE83718D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EA50FD-A0F5-429F-95F0-A88FAD85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420848-A650-412A-9ADB-28C0096D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760E28-7825-4276-8790-A9C11DA5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5781E1-60AA-4BF1-88BF-49E6DC12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B6E2721-7C31-43BF-9A22-1CB67A43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649FE7-6B1C-4D48-8D4B-4B822F7C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EEAD1F-B190-484A-A098-FBFA9CB0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A8494-8529-4681-885D-2F7B389A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BA7C58-71DA-466D-B743-335A8821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D0F48F-9826-46B9-BB0E-2DEEABED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26B5BA-CF9F-4B4C-92F4-F3967ED3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6B0C96-A1C3-454D-9C54-5B27DE60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33FA27-AA01-4A82-A4FA-366AF267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F1F6D9-11BA-4773-935A-E80D7BD8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2B324F-2B5A-45D7-AFDE-2C667C13C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E732C5-D06C-418B-BF96-94DFD547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525CF6-EC00-4F56-97F5-4B518846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C5E192C-976C-4691-934C-4E268429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D6FD1-54D8-419D-96C9-17917BAD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11D442-740F-4A7B-8F1D-C9F2D3C0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A5C7DC-B41D-4628-A1C8-89488EBB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5BA7157-69E8-4145-AB50-24DE338B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D0C108-D1C9-45C9-A270-8ADFA55C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78AA15D-8871-4CC1-A716-590D468E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BE3405-6E7A-46A3-875B-3A8E9B35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854753D-CACE-4922-88B4-3639AE8E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83A6C9-3C73-41A1-B917-CD7774A7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1D38CE-20DE-4D8C-B10C-9DA23EF2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692F88-BAF7-4D20-87E7-4998B5CC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8DB51-8DA9-4D8D-8710-CDEA9B01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B1AB01-1DE4-4B30-A3F7-45173428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FA177E-718F-4A2E-BC2D-185DCB0A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D5B734-4D58-4961-B6A7-0F7F5591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7BB953-FB9E-4D29-B3B6-05CAF9EB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DAE5CB5-BE51-45AF-BE13-573A5E15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84E4EF-3766-4D51-A3FB-10B1C3A5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B00FA1-49C5-4798-B92D-E8D482A3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EC7D20-8B66-4431-8F71-959C44E7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A30D26-5F36-4CB3-9458-A2A4B55C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3386EF-C9C9-449A-A0B0-23757E50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449D6-B043-42F7-8C8A-C07F456C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E6A93F-25FF-4E0E-933A-1AC24DFB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F8F30C8-E8FA-48C0-9B69-D0DACA32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87C17D5-5254-4CCE-9B4F-8C6AD6C8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913E7E-C12F-4E39-B564-7F54D47A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9BBC30-0169-4B25-A5C8-DBD99E17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DDE760-361B-4E8A-889F-B8B72823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80D222-72B0-4162-B993-E075C842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9CCCD7-BD30-4981-896F-76473585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67157A1-C2EB-40E2-B527-83AC0CA8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98D2642-C1EE-42BF-B312-2C59E931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794C1-8024-48A9-9BF7-E10FB4C3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F46CD5-4ABB-4D71-BA5C-F1396138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0CC077-9BE4-4791-84CE-A6419387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F3278D-0154-46E7-90ED-3948BE2E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C3E76-9A72-4737-BF43-1E9E7EF0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93A97-8FF1-47BD-8B06-C035F5DC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AD81-2992-4BE0-A18C-A651A9FE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3A0DC-1D2F-4DD3-8AC9-EDF6811F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CE0F4-C44A-4E3E-854D-9B37CD56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E392F-D137-4BA1-BF6C-51370741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61DB0-D98D-496D-8B72-FCA81C4C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69988-CAB3-4110-996E-406483FD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11C04-7703-4050-9932-01186195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AC955-A0C6-4CD7-94EC-C3A06912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B5DAA-E335-43B0-905C-82A707A6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D1D18-41CC-4859-9CF2-46232615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DBC99-C171-4820-92EB-A564433F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6955-B1FE-42BC-87F9-1E831824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B346B-5D9E-46F7-ACF3-07A6E53C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CDAB9-1B05-417C-A577-20FFF26A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14CB9-D118-45E7-9355-6303CE62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0F318-37AC-4379-9417-2C816C8A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4E24F-2D0D-438F-8301-42DB8F20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D19E9-E2ED-4BE0-A642-9F738299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5FE16-65D8-4D56-AF80-4CBAF719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68771-528D-421F-88C0-9600DB62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E1AD1-72B5-4BB9-9BF2-113FD7E8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B28A5-6B76-4FC2-9E71-05AA48E1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43F0-C06C-4A44-909D-BBE4FBE4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3C383-1B2E-4E78-8C58-72E794E1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D67F1-944B-445D-B70D-781B09B5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3C433-1CF9-4D1D-8B20-AB119172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16F94-4FBF-42BD-8032-B5082D87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4D4F3-063C-4721-A68C-143F4395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ACA4D-DC9E-4FAB-B696-F8D326FB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30993-3194-4D7E-80EB-628220F0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2D5D6-EE40-4C30-BA82-74A8ACF7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C3C70-427A-4103-8B48-11F75CE1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D9F87-2402-4282-9101-09CC6076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05ED-3E2D-4D74-B427-B8463DCB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7A08F-E2B1-4E4C-AA30-FD7DB37A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3A9CF-1FB5-4657-B20A-3F101AEF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49F1A-7D65-420E-818D-A698DFF2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1D6F1-0597-44C2-A73F-FB96B860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1FF7D-ABAC-4192-8B8C-D0A47784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F1FAB-5182-47FA-8340-8091425C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DDED9-EFE3-42F8-87E3-AD56A320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BFF0D-2053-40E8-8D67-260134A8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3B6C3-183D-4792-8BAD-A1CE8CDE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6F311-A037-4103-A1B6-D004A77B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F40E-A705-404F-9378-4541A136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A0E01-DD6E-489B-B14B-6DAF140C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BD066-893E-4443-89DE-725CD62B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F5209-C03D-49F0-9610-EC26DF11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31010-35AD-487D-9518-C4D6E4A8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136F2-0734-4E16-A748-BFB028A5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09F63-1211-45B5-9876-7F4831DE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5F30A-BD4A-4E03-B9BB-8E33D461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B2AD6-3E1B-4791-9349-D88BB729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5C776-AB0A-46C8-A1D2-8A8A2B7F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28D83-E014-4858-A228-2029FDFF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A4EE-5110-41D3-8DCA-2A59D7C3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833F0-DC64-4B2B-95E5-F254C779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9DB76-0860-4F4A-8DAE-0D506051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2ED27-9D26-400F-A6B9-C9F6CB9F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F5BF3-E597-4DCF-9FB2-7A70D52B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108CC-E691-4672-8E13-C68BACF8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17B09-00F9-4127-903D-1B0742ED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B0A21-6B48-43E2-8279-30C9C13D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8B455-2364-462B-ACDE-95235FE7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36D73-FD2D-4D8F-868E-B1F21937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5E02B-0644-4300-A677-46946959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D3A2-EDF9-49DC-9159-E28F3129C2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3F50-17A1-4DCD-8FB6-5539F66642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CDC4-41DA-46DE-9D89-5285D950B8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9B92-CB9D-42ED-A23A-77DCAE81B2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597E-FD94-4F4E-86C1-FB7630CB86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D1D7-D59A-4EDE-ADB6-5CE4974123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E876-7E1E-4330-B2B7-EDCC2658C3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C83E-7FC6-47CF-8087-38232BF449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93A2-D571-4D98-9B6A-5B08C774EB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BD18-A114-4807-87FA-5DC64F12BF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9E29-4745-49D5-9478-48462CD940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8B7D-3261-435C-A52E-26A702EFDB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240E-3149-47DD-98E8-233AE09A6F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18A6-B7B9-400B-B945-FB873CD80E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A2CE-491D-4EC2-BF37-39BB5945B4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938D-57BC-4822-BFEA-CF153B1B15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F7D5-BAE8-4875-A927-7E11A60B06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F050-865A-4CFF-ADB2-1324C06BA5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D3D6-E7CF-484F-A244-7BBB588BCD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CA76-63BA-438C-BDEC-8B8DED0EF0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788A-C057-430D-BDD7-88A804E7CC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F256-7208-458F-81DC-B1F80BB065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01DB-86BB-4DC7-907B-BD30F808AD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3B46-1453-4B5F-A8EA-4753022F8E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8586-9A47-40A9-A85D-2BB98AC97E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6B5A-F80C-443A-9B7F-2009BD2017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8492-EBE8-45B7-9CC2-9FDA84A3BB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4526-2102-438C-8C2E-D243541010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F91B-658B-4B85-B1F2-512E4BD045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5A0B-EC15-4F20-9768-D76DED877C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7BF5-7FA5-4E51-82A5-2928993C44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6F20-7EFD-4E61-9326-04E484035C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9ACF-6A51-4E38-9C91-A614E3A2F6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DD74-15F3-4112-9D6F-9B73766411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E6F9-DA44-4CBA-9955-DCEF21566E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9CBB-00B2-46DA-A222-78CAFE2F46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3A6D-E3AF-47C9-849E-F18B47DE4C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263F-70E8-4509-9F07-98C4BF438F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27E2-2150-4394-859C-75FE8261AC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3524-A6D1-4E98-8691-3C402B6719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0C4E-DDC0-481B-91D6-F7B1FB36A6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489A-3B1F-4FAA-A75A-4A3E1C5A5B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E7C7-23B9-4D60-B238-64752ACE35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C3D7-7235-4896-AA4F-FDFE00E941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B1AD-B33A-49F1-903C-B012EBDABC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F0EE-768B-4D79-91A9-E04B3C39CE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1221-18FD-4358-8F91-AB13F03E05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A6AA-67E7-4758-96F9-82BE419CFD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4162-F0D5-4CB5-BF27-D5FC6E2F7B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7DDB-A949-4158-8E59-4A9B034C9C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1852560" y="3057480"/>
            <a:ext cx="5438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图片 116737" descr=""/>
          <p:cNvPicPr/>
          <p:nvPr/>
        </p:nvPicPr>
        <p:blipFill>
          <a:blip r:embed="rId1"/>
          <a:stretch/>
        </p:blipFill>
        <p:spPr>
          <a:xfrm>
            <a:off x="571680" y="1647720"/>
            <a:ext cx="8001000" cy="3562560"/>
          </a:xfrm>
          <a:prstGeom prst="rect">
            <a:avLst/>
          </a:prstGeom>
          <a:ln w="0">
            <a:noFill/>
          </a:ln>
        </p:spPr>
      </p:pic>
      <p:sp>
        <p:nvSpPr>
          <p:cNvPr id="1480" name="矩形 116738"/>
          <p:cNvSpPr/>
          <p:nvPr/>
        </p:nvSpPr>
        <p:spPr>
          <a:xfrm>
            <a:off x="2028960" y="3711600"/>
            <a:ext cx="8762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16739"/>
          <p:cNvSpPr/>
          <p:nvPr/>
        </p:nvSpPr>
        <p:spPr>
          <a:xfrm>
            <a:off x="3564000" y="3716280"/>
            <a:ext cx="10764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116740"/>
          <p:cNvSpPr/>
          <p:nvPr/>
        </p:nvSpPr>
        <p:spPr>
          <a:xfrm>
            <a:off x="1951200" y="4734000"/>
            <a:ext cx="29239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图片 115713" descr=""/>
          <p:cNvPicPr/>
          <p:nvPr/>
        </p:nvPicPr>
        <p:blipFill>
          <a:blip r:embed="rId1"/>
          <a:stretch/>
        </p:blipFill>
        <p:spPr>
          <a:xfrm>
            <a:off x="804960" y="1681200"/>
            <a:ext cx="7400880" cy="3476520"/>
          </a:xfrm>
          <a:prstGeom prst="rect">
            <a:avLst/>
          </a:prstGeom>
          <a:ln w="0">
            <a:noFill/>
          </a:ln>
        </p:spPr>
      </p:pic>
      <p:sp>
        <p:nvSpPr>
          <p:cNvPr id="1484" name="矩形 115714"/>
          <p:cNvSpPr/>
          <p:nvPr/>
        </p:nvSpPr>
        <p:spPr>
          <a:xfrm>
            <a:off x="3076560" y="2197080"/>
            <a:ext cx="9428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15715"/>
          <p:cNvSpPr/>
          <p:nvPr/>
        </p:nvSpPr>
        <p:spPr>
          <a:xfrm>
            <a:off x="1644480" y="2708280"/>
            <a:ext cx="10861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15716"/>
          <p:cNvSpPr/>
          <p:nvPr/>
        </p:nvSpPr>
        <p:spPr>
          <a:xfrm>
            <a:off x="4653000" y="3735360"/>
            <a:ext cx="30668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15717"/>
          <p:cNvSpPr/>
          <p:nvPr/>
        </p:nvSpPr>
        <p:spPr>
          <a:xfrm>
            <a:off x="4140360" y="4240080"/>
            <a:ext cx="9428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图片 114689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6067440" cy="3619440"/>
          </a:xfrm>
          <a:prstGeom prst="rect">
            <a:avLst/>
          </a:prstGeom>
          <a:ln w="0">
            <a:noFill/>
          </a:ln>
        </p:spPr>
      </p:pic>
      <p:pic>
        <p:nvPicPr>
          <p:cNvPr id="1489" name="图片 114690" descr=""/>
          <p:cNvPicPr/>
          <p:nvPr/>
        </p:nvPicPr>
        <p:blipFill>
          <a:blip r:embed="rId2"/>
          <a:stretch/>
        </p:blipFill>
        <p:spPr>
          <a:xfrm>
            <a:off x="6877080" y="2421000"/>
            <a:ext cx="1800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0" name="图片 113665" descr=""/>
          <p:cNvPicPr/>
          <p:nvPr/>
        </p:nvPicPr>
        <p:blipFill>
          <a:blip r:embed="rId1"/>
          <a:stretch/>
        </p:blipFill>
        <p:spPr>
          <a:xfrm>
            <a:off x="782640" y="1069920"/>
            <a:ext cx="5429160" cy="438120"/>
          </a:xfrm>
          <a:prstGeom prst="rect">
            <a:avLst/>
          </a:prstGeom>
          <a:ln w="0">
            <a:noFill/>
          </a:ln>
        </p:spPr>
      </p:pic>
      <p:pic>
        <p:nvPicPr>
          <p:cNvPr id="1491" name="图片 113666" descr=""/>
          <p:cNvPicPr/>
          <p:nvPr/>
        </p:nvPicPr>
        <p:blipFill>
          <a:blip r:embed="rId2"/>
          <a:stretch/>
        </p:blipFill>
        <p:spPr>
          <a:xfrm>
            <a:off x="770040" y="1609560"/>
            <a:ext cx="7381800" cy="4048200"/>
          </a:xfrm>
          <a:prstGeom prst="rect">
            <a:avLst/>
          </a:prstGeom>
          <a:ln w="0">
            <a:noFill/>
          </a:ln>
        </p:spPr>
      </p:pic>
      <p:sp>
        <p:nvSpPr>
          <p:cNvPr id="1492" name="矩形 113667"/>
          <p:cNvSpPr/>
          <p:nvPr/>
        </p:nvSpPr>
        <p:spPr>
          <a:xfrm>
            <a:off x="3952800" y="1073160"/>
            <a:ext cx="2314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13668"/>
          <p:cNvSpPr/>
          <p:nvPr/>
        </p:nvSpPr>
        <p:spPr>
          <a:xfrm>
            <a:off x="1187280" y="1576440"/>
            <a:ext cx="15717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13669"/>
          <p:cNvSpPr/>
          <p:nvPr/>
        </p:nvSpPr>
        <p:spPr>
          <a:xfrm>
            <a:off x="7164360" y="1628640"/>
            <a:ext cx="9716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13670"/>
          <p:cNvSpPr/>
          <p:nvPr/>
        </p:nvSpPr>
        <p:spPr>
          <a:xfrm>
            <a:off x="1224000" y="2114640"/>
            <a:ext cx="657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13673"/>
          <p:cNvSpPr/>
          <p:nvPr/>
        </p:nvSpPr>
        <p:spPr>
          <a:xfrm>
            <a:off x="3851280" y="2114640"/>
            <a:ext cx="8571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13674"/>
          <p:cNvSpPr/>
          <p:nvPr/>
        </p:nvSpPr>
        <p:spPr>
          <a:xfrm>
            <a:off x="1835280" y="3141720"/>
            <a:ext cx="38480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13675"/>
          <p:cNvSpPr/>
          <p:nvPr/>
        </p:nvSpPr>
        <p:spPr>
          <a:xfrm>
            <a:off x="1908000" y="3645000"/>
            <a:ext cx="49057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13676"/>
          <p:cNvSpPr/>
          <p:nvPr/>
        </p:nvSpPr>
        <p:spPr>
          <a:xfrm>
            <a:off x="4500720" y="4149720"/>
            <a:ext cx="19047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13677"/>
          <p:cNvSpPr/>
          <p:nvPr/>
        </p:nvSpPr>
        <p:spPr>
          <a:xfrm>
            <a:off x="4140360" y="4653000"/>
            <a:ext cx="40100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13678"/>
          <p:cNvSpPr/>
          <p:nvPr/>
        </p:nvSpPr>
        <p:spPr>
          <a:xfrm>
            <a:off x="1239840" y="5191200"/>
            <a:ext cx="28004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2" name="图片 112641" descr=""/>
          <p:cNvPicPr/>
          <p:nvPr/>
        </p:nvPicPr>
        <p:blipFill>
          <a:blip r:embed="rId1"/>
          <a:stretch/>
        </p:blipFill>
        <p:spPr>
          <a:xfrm>
            <a:off x="871560" y="1652760"/>
            <a:ext cx="7400880" cy="3552480"/>
          </a:xfrm>
          <a:prstGeom prst="rect">
            <a:avLst/>
          </a:prstGeom>
          <a:ln w="0">
            <a:noFill/>
          </a:ln>
        </p:spPr>
      </p:pic>
      <p:sp>
        <p:nvSpPr>
          <p:cNvPr id="1503" name="矩形 112642"/>
          <p:cNvSpPr/>
          <p:nvPr/>
        </p:nvSpPr>
        <p:spPr>
          <a:xfrm>
            <a:off x="6686640" y="2701800"/>
            <a:ext cx="15714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矩形 112643"/>
          <p:cNvSpPr/>
          <p:nvPr/>
        </p:nvSpPr>
        <p:spPr>
          <a:xfrm>
            <a:off x="1258920" y="3213000"/>
            <a:ext cx="70581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矩形 112644"/>
          <p:cNvSpPr/>
          <p:nvPr/>
        </p:nvSpPr>
        <p:spPr>
          <a:xfrm>
            <a:off x="1332000" y="3716280"/>
            <a:ext cx="15714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12645"/>
          <p:cNvSpPr/>
          <p:nvPr/>
        </p:nvSpPr>
        <p:spPr>
          <a:xfrm>
            <a:off x="4140360" y="4221000"/>
            <a:ext cx="41623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矩形 112646"/>
          <p:cNvSpPr/>
          <p:nvPr/>
        </p:nvSpPr>
        <p:spPr>
          <a:xfrm>
            <a:off x="1403280" y="4724280"/>
            <a:ext cx="58197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8" name="图片 111617" descr=""/>
          <p:cNvPicPr/>
          <p:nvPr/>
        </p:nvPicPr>
        <p:blipFill>
          <a:blip r:embed="rId1"/>
          <a:stretch/>
        </p:blipFill>
        <p:spPr>
          <a:xfrm>
            <a:off x="438120" y="747720"/>
            <a:ext cx="3924360" cy="1000080"/>
          </a:xfrm>
          <a:prstGeom prst="rect">
            <a:avLst/>
          </a:prstGeom>
          <a:ln w="0">
            <a:noFill/>
          </a:ln>
        </p:spPr>
      </p:pic>
      <p:pic>
        <p:nvPicPr>
          <p:cNvPr id="1509" name="图片 111618" descr=""/>
          <p:cNvPicPr/>
          <p:nvPr/>
        </p:nvPicPr>
        <p:blipFill>
          <a:blip r:embed="rId2"/>
          <a:stretch/>
        </p:blipFill>
        <p:spPr>
          <a:xfrm>
            <a:off x="480960" y="1833480"/>
            <a:ext cx="7801200" cy="2200320"/>
          </a:xfrm>
          <a:prstGeom prst="rect">
            <a:avLst/>
          </a:prstGeom>
          <a:ln w="0">
            <a:noFill/>
          </a:ln>
        </p:spPr>
      </p:pic>
      <p:pic>
        <p:nvPicPr>
          <p:cNvPr id="1510" name="图片 111619" descr=""/>
          <p:cNvPicPr/>
          <p:nvPr/>
        </p:nvPicPr>
        <p:blipFill>
          <a:blip r:embed="rId3"/>
          <a:stretch/>
        </p:blipFill>
        <p:spPr>
          <a:xfrm>
            <a:off x="522360" y="4140360"/>
            <a:ext cx="7696080" cy="2114280"/>
          </a:xfrm>
          <a:prstGeom prst="rect">
            <a:avLst/>
          </a:prstGeom>
          <a:ln w="0">
            <a:noFill/>
          </a:ln>
        </p:spPr>
      </p:pic>
      <p:sp>
        <p:nvSpPr>
          <p:cNvPr id="1511" name="矩形 111620"/>
          <p:cNvSpPr/>
          <p:nvPr/>
        </p:nvSpPr>
        <p:spPr>
          <a:xfrm>
            <a:off x="1228680" y="2959200"/>
            <a:ext cx="442908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矩形 111621"/>
          <p:cNvSpPr/>
          <p:nvPr/>
        </p:nvSpPr>
        <p:spPr>
          <a:xfrm>
            <a:off x="1081080" y="4146480"/>
            <a:ext cx="4930920" cy="7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111622"/>
          <p:cNvSpPr/>
          <p:nvPr/>
        </p:nvSpPr>
        <p:spPr>
          <a:xfrm>
            <a:off x="1374840" y="5641920"/>
            <a:ext cx="589608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29" descr=""/>
          <p:cNvPicPr/>
          <p:nvPr/>
        </p:nvPicPr>
        <p:blipFill>
          <a:blip r:embed="rId1"/>
          <a:stretch/>
        </p:blipFill>
        <p:spPr>
          <a:xfrm>
            <a:off x="414360" y="1409760"/>
            <a:ext cx="8315280" cy="4038480"/>
          </a:xfrm>
          <a:prstGeom prst="rect">
            <a:avLst/>
          </a:prstGeom>
          <a:ln w="0">
            <a:noFill/>
          </a:ln>
        </p:spPr>
      </p:pic>
      <p:sp>
        <p:nvSpPr>
          <p:cNvPr id="1434" name="矩形 124930"/>
          <p:cNvSpPr/>
          <p:nvPr/>
        </p:nvSpPr>
        <p:spPr>
          <a:xfrm>
            <a:off x="1835280" y="2565360"/>
            <a:ext cx="622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矩形 124931"/>
          <p:cNvSpPr/>
          <p:nvPr/>
        </p:nvSpPr>
        <p:spPr>
          <a:xfrm>
            <a:off x="2916360" y="2527200"/>
            <a:ext cx="62208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2"/>
          <p:cNvSpPr/>
          <p:nvPr/>
        </p:nvSpPr>
        <p:spPr>
          <a:xfrm>
            <a:off x="4067280" y="2527200"/>
            <a:ext cx="62208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3"/>
          <p:cNvSpPr/>
          <p:nvPr/>
        </p:nvSpPr>
        <p:spPr>
          <a:xfrm>
            <a:off x="5292720" y="2527200"/>
            <a:ext cx="192708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4"/>
          <p:cNvSpPr/>
          <p:nvPr/>
        </p:nvSpPr>
        <p:spPr>
          <a:xfrm>
            <a:off x="3616200" y="3265560"/>
            <a:ext cx="109872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5"/>
          <p:cNvSpPr/>
          <p:nvPr/>
        </p:nvSpPr>
        <p:spPr>
          <a:xfrm>
            <a:off x="4572000" y="3645000"/>
            <a:ext cx="96516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4936"/>
          <p:cNvSpPr/>
          <p:nvPr/>
        </p:nvSpPr>
        <p:spPr>
          <a:xfrm>
            <a:off x="4788000" y="4005360"/>
            <a:ext cx="119376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4937"/>
          <p:cNvSpPr/>
          <p:nvPr/>
        </p:nvSpPr>
        <p:spPr>
          <a:xfrm>
            <a:off x="5364000" y="4365720"/>
            <a:ext cx="113688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4938"/>
          <p:cNvSpPr/>
          <p:nvPr/>
        </p:nvSpPr>
        <p:spPr>
          <a:xfrm>
            <a:off x="6732720" y="4743360"/>
            <a:ext cx="139356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4939"/>
          <p:cNvSpPr/>
          <p:nvPr/>
        </p:nvSpPr>
        <p:spPr>
          <a:xfrm>
            <a:off x="6291360" y="5119560"/>
            <a:ext cx="102240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123905" descr=""/>
          <p:cNvPicPr/>
          <p:nvPr/>
        </p:nvPicPr>
        <p:blipFill>
          <a:blip r:embed="rId1"/>
          <a:stretch/>
        </p:blipFill>
        <p:spPr>
          <a:xfrm>
            <a:off x="385920" y="976320"/>
            <a:ext cx="8372160" cy="4905360"/>
          </a:xfrm>
          <a:prstGeom prst="rect">
            <a:avLst/>
          </a:prstGeom>
          <a:ln w="0">
            <a:noFill/>
          </a:ln>
        </p:spPr>
      </p:pic>
      <p:sp>
        <p:nvSpPr>
          <p:cNvPr id="1445" name="矩形 123906"/>
          <p:cNvSpPr/>
          <p:nvPr/>
        </p:nvSpPr>
        <p:spPr>
          <a:xfrm>
            <a:off x="2973240" y="2031840"/>
            <a:ext cx="307980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3907"/>
          <p:cNvSpPr/>
          <p:nvPr/>
        </p:nvSpPr>
        <p:spPr>
          <a:xfrm>
            <a:off x="8259840" y="2022480"/>
            <a:ext cx="33660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3908"/>
          <p:cNvSpPr/>
          <p:nvPr/>
        </p:nvSpPr>
        <p:spPr>
          <a:xfrm>
            <a:off x="1835280" y="2401920"/>
            <a:ext cx="348912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123909"/>
          <p:cNvSpPr/>
          <p:nvPr/>
        </p:nvSpPr>
        <p:spPr>
          <a:xfrm>
            <a:off x="3132000" y="3284640"/>
            <a:ext cx="87012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23910"/>
          <p:cNvSpPr/>
          <p:nvPr/>
        </p:nvSpPr>
        <p:spPr>
          <a:xfrm>
            <a:off x="5546880" y="2881440"/>
            <a:ext cx="138420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23911"/>
          <p:cNvSpPr/>
          <p:nvPr/>
        </p:nvSpPr>
        <p:spPr>
          <a:xfrm>
            <a:off x="5499000" y="3471840"/>
            <a:ext cx="138456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123912"/>
          <p:cNvSpPr/>
          <p:nvPr/>
        </p:nvSpPr>
        <p:spPr>
          <a:xfrm>
            <a:off x="4643280" y="4005360"/>
            <a:ext cx="87012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123913"/>
          <p:cNvSpPr/>
          <p:nvPr/>
        </p:nvSpPr>
        <p:spPr>
          <a:xfrm>
            <a:off x="4643280" y="4581360"/>
            <a:ext cx="87012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123914"/>
          <p:cNvSpPr/>
          <p:nvPr/>
        </p:nvSpPr>
        <p:spPr>
          <a:xfrm>
            <a:off x="2987640" y="5157720"/>
            <a:ext cx="71748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123915"/>
          <p:cNvSpPr/>
          <p:nvPr/>
        </p:nvSpPr>
        <p:spPr>
          <a:xfrm>
            <a:off x="3635280" y="5516640"/>
            <a:ext cx="71748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22881" descr=""/>
          <p:cNvPicPr/>
          <p:nvPr/>
        </p:nvPicPr>
        <p:blipFill>
          <a:blip r:embed="rId1"/>
          <a:stretch/>
        </p:blipFill>
        <p:spPr>
          <a:xfrm>
            <a:off x="380880" y="1719360"/>
            <a:ext cx="8382240" cy="3419280"/>
          </a:xfrm>
          <a:prstGeom prst="rect">
            <a:avLst/>
          </a:prstGeom>
          <a:ln w="0">
            <a:noFill/>
          </a:ln>
        </p:spPr>
      </p:pic>
      <p:sp>
        <p:nvSpPr>
          <p:cNvPr id="1456" name="矩形 122882"/>
          <p:cNvSpPr/>
          <p:nvPr/>
        </p:nvSpPr>
        <p:spPr>
          <a:xfrm>
            <a:off x="8172360" y="2997360"/>
            <a:ext cx="362160" cy="28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122883"/>
          <p:cNvSpPr/>
          <p:nvPr/>
        </p:nvSpPr>
        <p:spPr>
          <a:xfrm>
            <a:off x="8172360" y="4508640"/>
            <a:ext cx="36216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121857" descr=""/>
          <p:cNvPicPr/>
          <p:nvPr/>
        </p:nvPicPr>
        <p:blipFill>
          <a:blip r:embed="rId1"/>
          <a:stretch/>
        </p:blipFill>
        <p:spPr>
          <a:xfrm>
            <a:off x="399960" y="1738440"/>
            <a:ext cx="8344080" cy="3381120"/>
          </a:xfrm>
          <a:prstGeom prst="rect">
            <a:avLst/>
          </a:prstGeom>
          <a:ln w="0">
            <a:noFill/>
          </a:ln>
        </p:spPr>
      </p:pic>
      <p:sp>
        <p:nvSpPr>
          <p:cNvPr id="1459" name="矩形 121858"/>
          <p:cNvSpPr/>
          <p:nvPr/>
        </p:nvSpPr>
        <p:spPr>
          <a:xfrm>
            <a:off x="8210520" y="2235240"/>
            <a:ext cx="36216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21859"/>
          <p:cNvSpPr/>
          <p:nvPr/>
        </p:nvSpPr>
        <p:spPr>
          <a:xfrm>
            <a:off x="8172360" y="3357720"/>
            <a:ext cx="362160" cy="28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120833" descr=""/>
          <p:cNvPicPr/>
          <p:nvPr/>
        </p:nvPicPr>
        <p:blipFill>
          <a:blip r:embed="rId1"/>
          <a:stretch/>
        </p:blipFill>
        <p:spPr>
          <a:xfrm>
            <a:off x="635040" y="731880"/>
            <a:ext cx="7829640" cy="5992920"/>
          </a:xfrm>
          <a:prstGeom prst="rect">
            <a:avLst/>
          </a:prstGeom>
          <a:ln w="0">
            <a:noFill/>
          </a:ln>
        </p:spPr>
      </p:pic>
      <p:sp>
        <p:nvSpPr>
          <p:cNvPr id="1462" name="矩形 120834"/>
          <p:cNvSpPr/>
          <p:nvPr/>
        </p:nvSpPr>
        <p:spPr>
          <a:xfrm>
            <a:off x="7705800" y="1873080"/>
            <a:ext cx="4284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20835"/>
          <p:cNvSpPr/>
          <p:nvPr/>
        </p:nvSpPr>
        <p:spPr>
          <a:xfrm>
            <a:off x="4859280" y="4365720"/>
            <a:ext cx="4287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图片 119809" descr=""/>
          <p:cNvPicPr/>
          <p:nvPr/>
        </p:nvPicPr>
        <p:blipFill>
          <a:blip r:embed="rId1"/>
          <a:stretch/>
        </p:blipFill>
        <p:spPr>
          <a:xfrm>
            <a:off x="557280" y="1190520"/>
            <a:ext cx="8029440" cy="4476960"/>
          </a:xfrm>
          <a:prstGeom prst="rect">
            <a:avLst/>
          </a:prstGeom>
          <a:ln w="0">
            <a:noFill/>
          </a:ln>
        </p:spPr>
      </p:pic>
      <p:sp>
        <p:nvSpPr>
          <p:cNvPr id="1465" name="矩形 119811"/>
          <p:cNvSpPr/>
          <p:nvPr/>
        </p:nvSpPr>
        <p:spPr>
          <a:xfrm>
            <a:off x="7810560" y="3235320"/>
            <a:ext cx="4284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图片 118785" descr=""/>
          <p:cNvPicPr/>
          <p:nvPr/>
        </p:nvPicPr>
        <p:blipFill>
          <a:blip r:embed="rId1"/>
          <a:stretch/>
        </p:blipFill>
        <p:spPr>
          <a:xfrm>
            <a:off x="542880" y="1685880"/>
            <a:ext cx="8058240" cy="3486240"/>
          </a:xfrm>
          <a:prstGeom prst="rect">
            <a:avLst/>
          </a:prstGeom>
          <a:ln w="0">
            <a:noFill/>
          </a:ln>
        </p:spPr>
      </p:pic>
      <p:sp>
        <p:nvSpPr>
          <p:cNvPr id="1467" name="矩形 118786"/>
          <p:cNvSpPr/>
          <p:nvPr/>
        </p:nvSpPr>
        <p:spPr>
          <a:xfrm>
            <a:off x="7734240" y="2749680"/>
            <a:ext cx="4287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117762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7962840" cy="905040"/>
          </a:xfrm>
          <a:prstGeom prst="rect">
            <a:avLst/>
          </a:prstGeom>
          <a:ln w="0">
            <a:noFill/>
          </a:ln>
        </p:spPr>
      </p:pic>
      <p:pic>
        <p:nvPicPr>
          <p:cNvPr id="1469" name="图片 117763" descr=""/>
          <p:cNvPicPr/>
          <p:nvPr/>
        </p:nvPicPr>
        <p:blipFill>
          <a:blip r:embed="rId2"/>
          <a:stretch/>
        </p:blipFill>
        <p:spPr>
          <a:xfrm>
            <a:off x="1116000" y="1652760"/>
            <a:ext cx="6829560" cy="1161720"/>
          </a:xfrm>
          <a:prstGeom prst="rect">
            <a:avLst/>
          </a:prstGeom>
          <a:ln w="0">
            <a:noFill/>
          </a:ln>
        </p:spPr>
      </p:pic>
      <p:pic>
        <p:nvPicPr>
          <p:cNvPr id="1470" name="图片 117764" descr=""/>
          <p:cNvPicPr/>
          <p:nvPr/>
        </p:nvPicPr>
        <p:blipFill>
          <a:blip r:embed="rId3"/>
          <a:stretch/>
        </p:blipFill>
        <p:spPr>
          <a:xfrm>
            <a:off x="1077840" y="2867040"/>
            <a:ext cx="5429160" cy="1400040"/>
          </a:xfrm>
          <a:prstGeom prst="rect">
            <a:avLst/>
          </a:prstGeom>
          <a:ln w="0">
            <a:noFill/>
          </a:ln>
        </p:spPr>
      </p:pic>
      <p:pic>
        <p:nvPicPr>
          <p:cNvPr id="1471" name="图片 117765" descr=""/>
          <p:cNvPicPr/>
          <p:nvPr/>
        </p:nvPicPr>
        <p:blipFill>
          <a:blip r:embed="rId4"/>
          <a:stretch/>
        </p:blipFill>
        <p:spPr>
          <a:xfrm>
            <a:off x="1047600" y="4321080"/>
            <a:ext cx="7419960" cy="1467000"/>
          </a:xfrm>
          <a:prstGeom prst="rect">
            <a:avLst/>
          </a:prstGeom>
          <a:ln w="0">
            <a:noFill/>
          </a:ln>
        </p:spPr>
      </p:pic>
      <p:pic>
        <p:nvPicPr>
          <p:cNvPr id="1472" name="图片 117766" descr=""/>
          <p:cNvPicPr/>
          <p:nvPr/>
        </p:nvPicPr>
        <p:blipFill>
          <a:blip r:embed="rId5"/>
          <a:stretch/>
        </p:blipFill>
        <p:spPr>
          <a:xfrm>
            <a:off x="1092240" y="5824440"/>
            <a:ext cx="7362720" cy="933480"/>
          </a:xfrm>
          <a:prstGeom prst="rect">
            <a:avLst/>
          </a:prstGeom>
          <a:ln w="0">
            <a:noFill/>
          </a:ln>
        </p:spPr>
      </p:pic>
      <p:sp>
        <p:nvSpPr>
          <p:cNvPr id="1473" name="矩形 117767"/>
          <p:cNvSpPr/>
          <p:nvPr/>
        </p:nvSpPr>
        <p:spPr>
          <a:xfrm>
            <a:off x="5657760" y="2863800"/>
            <a:ext cx="4287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17768"/>
          <p:cNvSpPr/>
          <p:nvPr/>
        </p:nvSpPr>
        <p:spPr>
          <a:xfrm>
            <a:off x="6516720" y="4311720"/>
            <a:ext cx="18763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17769"/>
          <p:cNvSpPr/>
          <p:nvPr/>
        </p:nvSpPr>
        <p:spPr>
          <a:xfrm>
            <a:off x="1547640" y="4849920"/>
            <a:ext cx="9050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7770"/>
          <p:cNvSpPr/>
          <p:nvPr/>
        </p:nvSpPr>
        <p:spPr>
          <a:xfrm>
            <a:off x="5435640" y="5345280"/>
            <a:ext cx="10764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7771"/>
          <p:cNvSpPr/>
          <p:nvPr/>
        </p:nvSpPr>
        <p:spPr>
          <a:xfrm>
            <a:off x="6659640" y="5805360"/>
            <a:ext cx="9046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7772"/>
          <p:cNvSpPr/>
          <p:nvPr/>
        </p:nvSpPr>
        <p:spPr>
          <a:xfrm>
            <a:off x="5364000" y="6327720"/>
            <a:ext cx="1305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14:09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